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695-AF3E-4B45-8BB4-3F812BE9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2BC-C0E7-4370-ABE0-A545F4EE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5FE-8CE8-481E-9E86-E6015589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5E5-1595-44EA-BA4F-D2CEDA4F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690-1200-493D-B21A-062A7FF1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1A6-F6D3-44E6-9289-503A63A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753-A0F1-4A16-8F5C-FCD92407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D6D-5D2A-4F91-98B1-A13D3535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7FD-C544-44C5-915F-A1F471CB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21B-E50C-4407-994F-02411CF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239-0AB6-44FA-85AC-51222CEC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931-6F8E-4E21-8FF8-462E181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D53F-C9D6-46C8-A733-9F785B81AE1C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pademographics.com/" TargetMode="External"/><Relationship Id="rId2" Type="http://schemas.openxmlformats.org/officeDocument/2006/relationships/hyperlink" Target="http://www.pademographics.com/" TargetMode="External"/><Relationship Id="rId3" Type="http://schemas.openxmlformats.org/officeDocument/2006/relationships/hyperlink" Target="http://www.pademographics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cbs.org/phc_97/phc_covr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19480" y="-23760"/>
            <a:ext cx="2952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כלוסיה ערבי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ה המערבית ועז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ער של מיליון אנש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3000"/>
            <a:ext cx="3048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8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 ב-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54880" y="6324480"/>
            <a:ext cx="355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Bennett Zimmerman, Roberta Seid, PhD &amp; Michael L. Wise, Ph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2005 All Rights Reserv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990800"/>
            <a:ext cx="3048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חות לידו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2819520"/>
            <a:ext cx="304776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שלילית נט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67344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רושלי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4521240"/>
            <a:ext cx="3048120" cy="6858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שבי חו"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5369040"/>
            <a:ext cx="304776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מצאי המחק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 ב-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61480" y="1600200"/>
            <a:ext cx="2128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צג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כנס הרצליה"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1.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3200400"/>
            <a:ext cx="228744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SA Research T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Bennett Zimm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oberta Seid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ichael Wise, Ph.D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2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הצוות הישראל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ורם אטינג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א"ל (מיל.) דוד שח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רופ. עזרה זה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דר' דוד פסי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ברהם שבו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עקב פייטלס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990720"/>
            <a:ext cx="8915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למ"ס קיים בשנות השמונים והתשעים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דיקות תקופתיות, כדי לוודא את תקינות ממצאיו, מכיוון שעבר זמן רב מאז ספירת האוכלוסין של 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67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להלן קטע ממסמך הלמ"ס שפורסם ביולי 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עשו נסיונות להעריך את אומדני האוכלוסייה ע"י השוואתם למקורות בלתי תלויים אחרים, כמו: מרשם התושבים בחבל עזה לאחר מבצע החלפת תעודות הזהות , סקר כח אדם, מספר התלמידים בבתי הספר, ועוד.  השוואות אלו הראו שההבדלים אינם גדולים ואינם מהותיים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שוואת אומדני האוכלוסייה המעודכנים [בחבל עזה], לסוף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9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עם מרשם התושבים המעודכן לאחר מבצע החלפת תעודות הזהות (במחצית השנייה של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8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הראתה כי ההפרש בין אומדני האוכלוסייה למרשם התושבים (לאחר ניכוי תושבים הנמצאים בחו"ל) לגבי סך כל האוכלוסייה בחבל עזה הוא כ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%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.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urce:  ICB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emographic Characteristics of the Arab Population in Judea, Samaria, and Gaza, 1968-1993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Publication #1025, Page 15, July 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07800" y="27000"/>
            <a:ext cx="47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הלמ"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ערכה פנימית על אומדני הגדמ"ע ועז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6440" y="5335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6440" y="13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440" y="20811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762120"/>
            <a:ext cx="0" cy="1523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82560" y="15238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82560" y="22860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82560" y="7621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288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85800" y="38098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85800" y="45720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85800" y="30481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85800" y="22860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7080" y="2833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7080" y="3595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8800" y="43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90920"/>
            <a:ext cx="762120" cy="1981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6520" y="4570560"/>
            <a:ext cx="94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למ"ס</a:t>
            </a:r>
            <a:r>
              <a:rPr b="1" lang="he-IL" sz="1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+ 8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118800" y="4570560"/>
            <a:ext cx="31449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 u="sng">
                <a:solidFill>
                  <a:srgbClr val="ffffff"/>
                </a:solidFill>
                <a:uFillTx/>
                <a:latin typeface="Times New Roman"/>
                <a:cs typeface="Arial"/>
              </a:rPr>
              <a:t>ועדת הבחירות, </a:t>
            </a:r>
            <a:r>
              <a:rPr b="1" lang="he-IL" sz="1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10.2004</a:t>
            </a:r>
            <a:r>
              <a:rPr b="1" lang="he-IL" sz="1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i="1" lang="he-IL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.3 </a:t>
            </a:r>
            <a:r>
              <a:rPr b="1" i="1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מיליון בעלי זכות בחירה המתגוררים</a:t>
            </a:r>
            <a:r>
              <a:rPr b="1" i="1" lang="he-IL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בשטחי הרש"פ</a:t>
            </a:r>
            <a:r>
              <a:rPr b="1" i="1" lang="he-IL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00,000 </a:t>
            </a: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Arial"/>
              </a:rPr>
              <a:t>תושבי חו"ל בעלי זכות בחירה</a:t>
            </a: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2590920"/>
            <a:ext cx="762120" cy="19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8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תושבי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דה-פקט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2286000"/>
            <a:ext cx="76212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3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חו"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1280" y="1905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.5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438280"/>
            <a:ext cx="761760" cy="213372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209680"/>
            <a:ext cx="762120" cy="2362320"/>
          </a:xfrm>
          <a:prstGeom prst="rect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1752480"/>
            <a:ext cx="761760" cy="2819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56600" y="220968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.3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85640" y="213372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.4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80920" y="190512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.5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23560" y="1447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.85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59092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503200" y="228600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.3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31000" y="228600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.3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09160" y="4570560"/>
            <a:ext cx="126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מש הבריאו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הפלסטיני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996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+ 8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2640" y="457056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למס"פ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997</a:t>
            </a:r>
            <a:r>
              <a:rPr b="1" lang="he-IL" sz="1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+ 7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80920" y="457056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Arial"/>
              </a:rPr>
              <a:t>תחזית הלמס"פ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(200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4572000"/>
            <a:ext cx="784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53640" y="25560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53480" y="76320"/>
            <a:ext cx="4845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ועדת הבחירות של הרש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מספר בעלי זכות הבחירה תואם את נתוני הלמ"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וקטובר </a:t>
            </a:r>
            <a:r>
              <a:rPr b="0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0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וינואר </a:t>
            </a:r>
            <a:r>
              <a:rPr b="0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5375160"/>
            <a:ext cx="861084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תוני אוקטובר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של ועדת הבחירות הפלסטינית (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 בוגרים) מאשרים שנתוני היסוד של הלמס"פ (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כוללים תושבי חו"ל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ספר הבוגרים ב-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לפי אומדן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של משרד הבריאות הפלסטיני, קטן ב-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,000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נתוני ועדת הבחירות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מדן הלמ"ס מאמצע שנות ה-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זהה לנתוני ועדת הבחירות מאוקטובר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וינואר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5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13716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צפויים להיות בני </a:t>
            </a:r>
            <a:r>
              <a:rPr b="0" i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r>
              <a:rPr b="0" i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ומעלה  ב-</a:t>
            </a:r>
            <a:r>
              <a:rPr b="0" i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0" i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03360" y="1965240"/>
            <a:ext cx="6120" cy="3138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-74880" y="2589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080" y="3351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00" y="4094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04720" y="3946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4720" y="3565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4720" y="31845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4720" y="2803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04720" y="2422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7040" y="4708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7040" y="43275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27040" y="5089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27040" y="4708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92560" y="0"/>
            <a:ext cx="267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/שנ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74880" y="182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27040" y="19652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7240" y="2827440"/>
            <a:ext cx="539640" cy="22669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47800" y="5122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62000" y="51246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76200" y="5132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90400" y="5122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04600" y="51246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8800" y="51260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45600" y="5133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200" y="51354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4000" y="5133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3720" y="488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13040" y="2735280"/>
            <a:ext cx="539640" cy="236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2741760"/>
            <a:ext cx="5396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589120"/>
            <a:ext cx="539640" cy="251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2589120"/>
            <a:ext cx="539640" cy="251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436840"/>
            <a:ext cx="539640" cy="266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2208240"/>
            <a:ext cx="539640" cy="28954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41560" y="2320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0400" y="5094360"/>
            <a:ext cx="794412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49320" y="129852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לפי לידות/שנ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87280" y="5460840"/>
            <a:ext cx="630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ידות של הלמס"פ נעשתה על בסיס נתוני יסוד מנופחים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כוללת יותר מ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,000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לידות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3360" y="1965240"/>
            <a:ext cx="6120" cy="3138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74880" y="2589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080" y="3351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600" y="4094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04720" y="3946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04720" y="3565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04720" y="31845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04720" y="2803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04720" y="2422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7040" y="4708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27040" y="43275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27040" y="5089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27040" y="4708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080" y="0"/>
            <a:ext cx="56743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/שנ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ו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נתונים ממוסמכים של משרד הבריאות הפלסטינ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74880" y="182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27040" y="19652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27240" y="2827440"/>
            <a:ext cx="539640" cy="22669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47800" y="5122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000" y="51246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76200" y="5132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0400" y="5122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04600" y="51246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18800" y="51260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45600" y="5133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200" y="51354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4000" y="5133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3720" y="488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13040" y="2735280"/>
            <a:ext cx="539640" cy="236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2741760"/>
            <a:ext cx="5396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91120" y="2589120"/>
            <a:ext cx="539640" cy="251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2589120"/>
            <a:ext cx="539640" cy="251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436840"/>
            <a:ext cx="539640" cy="266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48520" y="2208240"/>
            <a:ext cx="539640" cy="28954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41560" y="2320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27240" y="3198960"/>
            <a:ext cx="539640" cy="18856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13040" y="3198960"/>
            <a:ext cx="539640" cy="18856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3274920"/>
            <a:ext cx="539640" cy="180972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3274920"/>
            <a:ext cx="539640" cy="180972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70440" y="3351240"/>
            <a:ext cx="539640" cy="17524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62720" y="3274920"/>
            <a:ext cx="539640" cy="182880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42040" y="3122640"/>
            <a:ext cx="539640" cy="19810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3198960"/>
            <a:ext cx="539640" cy="18856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3122640"/>
            <a:ext cx="539640" cy="19810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0400" y="5094360"/>
            <a:ext cx="794412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49320" y="129852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לפי לידות/שנ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236520" y="5460840"/>
            <a:ext cx="878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ידות של הלמס"פ נעשתה על בסיס נתוני יסוד מנופחים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כוללת יותר מ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,000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לידות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תונים ממוסמכים של משרד הבריאות הפלסטיני נמוכים באופן משמעותי מתחזית הלמס"פ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665440"/>
            <a:ext cx="304920" cy="3049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17000" y="2651040"/>
            <a:ext cx="19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3116160"/>
            <a:ext cx="304920" cy="30492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74520" y="312732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he-IL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רד הבריאות הפלסטיני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03360" y="1965240"/>
            <a:ext cx="6120" cy="3138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74880" y="2589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080" y="3351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600" y="4094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04720" y="3946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04720" y="3565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04720" y="31845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04720" y="2803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04720" y="2422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27040" y="4708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27040" y="43275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27040" y="5089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27040" y="4708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2760" y="0"/>
            <a:ext cx="6310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/שנ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תאמה בין נתוני משרדי הבריאות והחינוך הפלסטינ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74880" y="182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27040" y="19652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27240" y="2827440"/>
            <a:ext cx="539640" cy="22669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47800" y="5122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62000" y="51246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76200" y="5132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0400" y="5122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04600" y="51246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18800" y="51260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45600" y="5133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200" y="51354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4000" y="5133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3720" y="488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13040" y="2735280"/>
            <a:ext cx="539640" cy="236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05320" y="2741760"/>
            <a:ext cx="5396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2589120"/>
            <a:ext cx="539640" cy="251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76920" y="2589120"/>
            <a:ext cx="539640" cy="251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2436840"/>
            <a:ext cx="539640" cy="266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48520" y="2208240"/>
            <a:ext cx="539640" cy="28954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41560" y="2320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27240" y="3198960"/>
            <a:ext cx="539640" cy="18856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3040" y="3198960"/>
            <a:ext cx="539640" cy="18856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3274920"/>
            <a:ext cx="539640" cy="180972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274920"/>
            <a:ext cx="539640" cy="180972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70440" y="3351240"/>
            <a:ext cx="539640" cy="17524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3274920"/>
            <a:ext cx="539640" cy="182880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42040" y="3122640"/>
            <a:ext cx="539640" cy="19810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3198960"/>
            <a:ext cx="539640" cy="18856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2120" y="3122640"/>
            <a:ext cx="539640" cy="19810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665440"/>
            <a:ext cx="304920" cy="3049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17000" y="2651040"/>
            <a:ext cx="19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86600" y="3116160"/>
            <a:ext cx="304920" cy="30492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74520" y="312732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he-IL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רד הבריאות הפלסטיני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0400" y="5094360"/>
            <a:ext cx="794412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-49320" y="129852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לפי לידות/שנ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51880" y="1200240"/>
            <a:ext cx="25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רד החינוך הפלסטינ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כיתות א' </a:t>
            </a:r>
            <a:r>
              <a:rPr b="1" i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שנים אחור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387520" y="2438280"/>
            <a:ext cx="355680" cy="838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30600" y="2438280"/>
            <a:ext cx="380880" cy="838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56680" y="32767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200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70920" y="32767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200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33720" y="32767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32767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3440" y="5610240"/>
            <a:ext cx="91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תוני הלידה של משרד הבריאות תואמים את נתוני משרד החינוך לגבי כיתות א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03360" y="1357200"/>
            <a:ext cx="6120" cy="351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-74880" y="1981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8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600" y="3486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04720" y="33386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04720" y="2957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04720" y="25765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04720" y="21956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04720" y="1814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27040" y="4100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27040" y="37195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27040" y="44816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27040" y="4100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74880" y="1219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27040" y="13572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47800" y="4970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2000" y="4971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76200" y="4979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190400" y="4970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04600" y="4971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8800" y="4973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145600" y="4981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200" y="49831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1720" y="4981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/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3720" y="42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41560" y="1712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33160" y="487692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33720" y="4343400"/>
            <a:ext cx="539640" cy="1522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4191120"/>
            <a:ext cx="539640" cy="3045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98840" y="4114800"/>
            <a:ext cx="539640" cy="3808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84640" y="3809880"/>
            <a:ext cx="53964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76920" y="3429000"/>
            <a:ext cx="539640" cy="10666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56240" y="3505320"/>
            <a:ext cx="539640" cy="9903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48520" y="3505320"/>
            <a:ext cx="539640" cy="9903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0400" y="4486320"/>
            <a:ext cx="794412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44360" y="690480"/>
            <a:ext cx="17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כניסות ויציאות נט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אלפים/שנ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84640" y="92160"/>
            <a:ext cx="267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הגירה/שנ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תחזית הלמס"פ 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533520" y="5335560"/>
            <a:ext cx="9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מניחה הגירה חיובית גדולה מאד: יותר מ-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,000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לשנה מ-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1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79520" y="1357200"/>
            <a:ext cx="6120" cy="351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74880" y="1981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08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9600" y="3486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80880" y="33386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80880" y="2957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80880" y="25765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80880" y="21956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80880" y="1814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03200" y="4100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03200" y="37195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03200" y="44816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03200" y="4100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74880" y="1219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03200" y="13572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-27000" y="69048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כניסות ויציאות נט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אלפים/שנה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470440" y="4970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854480" y="4971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238520" y="4979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628680" y="4970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25680" y="4971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09720" y="4973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12840" y="4981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90400" y="49831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00000" y="4981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3720" y="42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41560" y="1712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09320" y="487692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00600" y="4343400"/>
            <a:ext cx="539640" cy="1522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4191120"/>
            <a:ext cx="540000" cy="3045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4114800"/>
            <a:ext cx="539640" cy="3808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22920" y="3809880"/>
            <a:ext cx="54000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38880" y="3429000"/>
            <a:ext cx="540000" cy="10666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848720" y="3505320"/>
            <a:ext cx="539640" cy="9903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70800" y="3505320"/>
            <a:ext cx="540000" cy="9903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495680"/>
            <a:ext cx="540000" cy="228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4680" y="4495680"/>
            <a:ext cx="539640" cy="228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848720" y="4495680"/>
            <a:ext cx="539640" cy="228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4495680"/>
            <a:ext cx="53964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34320" y="2286000"/>
            <a:ext cx="304560" cy="3049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91520" y="232236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למס"פ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934320" y="2743200"/>
            <a:ext cx="304560" cy="304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1520" y="2773440"/>
            <a:ext cx="193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תוני משטרת הגבולות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4495680"/>
            <a:ext cx="5396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10080" y="4495680"/>
            <a:ext cx="54000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91120" y="4495680"/>
            <a:ext cx="539640" cy="228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794120" y="4495680"/>
            <a:ext cx="540000" cy="228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4495680"/>
            <a:ext cx="54000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90160" y="4981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78280" y="4191120"/>
            <a:ext cx="539640" cy="3045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80680" y="4981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68440" y="4495680"/>
            <a:ext cx="540000" cy="228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83800" y="4981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4320" y="4981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62080" y="4343400"/>
            <a:ext cx="539640" cy="152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64480" y="4981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2600" y="4419720"/>
            <a:ext cx="539640" cy="759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4267080"/>
            <a:ext cx="540000" cy="228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4486320"/>
            <a:ext cx="862956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04000" y="46080"/>
            <a:ext cx="270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/שנ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ו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נתוני משטרת הגבולו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76320" y="5319720"/>
            <a:ext cx="9144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מניחה הגירה חיובית גדולה מאד: יותר מ-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,000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לשנה מ-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תוני משטרת הגבולות מתעדים הגירה-שלילית-נטו של יותר מ-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,000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לשנה מ-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כוללת – מדי שנה(!) - למעלה מ-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,000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איש שאינם בשטחי הרש"פ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403848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54400" y="3708360"/>
            <a:ext cx="20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וסט מלחמת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1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,000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04760" y="370836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וסט-אוסל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895480" y="0"/>
            <a:ext cx="347688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גירה חוקית לתחומי ישרא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993 -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2290680" cy="31244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 flipV="1">
            <a:off x="4881600" y="1676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542840" y="3126600"/>
            <a:ext cx="68760" cy="452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168080" y="2755440"/>
            <a:ext cx="360360" cy="28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-101520" y="4270320"/>
            <a:ext cx="9232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,000 </a:t>
            </a:r>
            <a:r>
              <a:rPr b="0" lang="he-IL" sz="2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שבי הרש"פ קיבלו ת.ז. ישראליות ב-</a:t>
            </a:r>
            <a:r>
              <a:rPr b="0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-2003</a:t>
            </a:r>
            <a:r>
              <a:rPr b="0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במסגרת איחוד משפחות</a:t>
            </a:r>
            <a:r>
              <a:rPr b="0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5,000 </a:t>
            </a:r>
            <a:r>
              <a:rPr b="0" lang="he-IL" sz="2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הם קיבלו ת.ז. מאז </a:t>
            </a:r>
            <a:r>
              <a:rPr b="0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0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i="1" lang="he-IL" sz="2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ׁ(מסמך משרד הפנים הישראלי, נובמבר </a:t>
            </a:r>
            <a:r>
              <a:rPr b="0" i="1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</a:t>
            </a:r>
            <a:r>
              <a:rPr b="0" i="1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תונים אלו אינם כוללים מהגרים בלתי-חוקיים לישראל וערביי ירושלים בעלי ת.ז. ישראליות שחזרו מהגדמ"ע לירושלים</a:t>
            </a:r>
            <a:r>
              <a:rPr b="0" i="1" lang="he-I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780720" y="-30240"/>
            <a:ext cx="16509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נתוני המחק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997-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28600" y="685800"/>
          <a:ext cx="8534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534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-533520" y="591660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מינות מודלים דמוגרפים מחייבת שקיפות של נתוני יסוד, לידות, פטירות והגירה חיובית ושלילית, כפי שנוה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חקר זה. אין לקבל מודלים – שאינם מציגים את הנתונים הנ"ל – אלא מתבססים על תחזית הלמס"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בלי לבדוק אותה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ובונים עליה הערכות ושעורי ריבוי טבעי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543040" y="1676520"/>
            <a:ext cx="137160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-53640" y="789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7400" y="1066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80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800" y="33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1219320"/>
            <a:ext cx="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10760" y="1065240"/>
            <a:ext cx="25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תחזית הלמס"פ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.83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מיליון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2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 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1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57200" y="4724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57200" y="3581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57200" y="2438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57200" y="1295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800" y="4510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57200" y="5867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800" y="5653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59880" y="18032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1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 משרד הבריאות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33520" y="167652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22920" y="76320"/>
            <a:ext cx="2667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טעויות 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לידות משרד הבריאו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420080" y="17780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8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6000" y="17780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00" y="24066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6000" y="29876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3400" y="36734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61760" y="321624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1760" y="382572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61760" y="262080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61760" y="200664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5880" y="1295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י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2120" y="5610240"/>
            <a:ext cx="84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urce:  ICBS,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Final Assessments of Population in Judea, Samaria &amp; Gaza, 1996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Julia Zemel, December 22, 1997;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lestine Central Bureau of Statistics, Demographic Indicators of the Palestinian Terrtory, 1997 – 201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996920"/>
            <a:ext cx="0" cy="245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4280" y="4495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2760" y="4495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84640" y="1930320"/>
            <a:ext cx="914400" cy="2514600"/>
          </a:xfrm>
          <a:prstGeom prst="rect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9120" y="3149640"/>
            <a:ext cx="914400" cy="1295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18800" y="280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4320" y="15638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9360" y="46080"/>
            <a:ext cx="3723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ומדן אוכלוסין למ"ס ו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גדה המערבית ועז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1995 &amp; 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484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למ"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917720"/>
            <a:ext cx="4114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ל-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5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היא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,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גידול בהשוואה לנתוני הלמ"ס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-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5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כלומר, גידול מצטבר שנתי של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%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לשנה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38080" y="4435200"/>
            <a:ext cx="50292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543040" y="1676520"/>
            <a:ext cx="137160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2209680"/>
            <a:ext cx="1371600" cy="1526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-53640" y="789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400" y="1066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480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4800" y="33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3520" y="1219320"/>
            <a:ext cx="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10760" y="1065240"/>
            <a:ext cx="25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תחזית הלמס"פ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.83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מיליון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2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 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1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57200" y="4724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57200" y="3581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57200" y="2438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57200" y="1295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800" y="4510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57200" y="5867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4800" y="5653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459880" y="18032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1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 משרד הבריאות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89400" y="2144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ספת לידות</a:t>
            </a:r>
            <a:r>
              <a:rPr b="1" lang="he-I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167652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35400" y="76320"/>
            <a:ext cx="2043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טעויות 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תוספת לידו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20080" y="17780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8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21960" y="213372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543040" y="1676520"/>
            <a:ext cx="137160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43040" y="2209680"/>
            <a:ext cx="1371600" cy="1526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43040" y="2362320"/>
            <a:ext cx="1371600" cy="685800"/>
          </a:xfrm>
          <a:prstGeom prst="rect">
            <a:avLst/>
          </a:pr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-53640" y="789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400" y="1066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80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800" y="33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1219320"/>
            <a:ext cx="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710760" y="1065240"/>
            <a:ext cx="25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תחזית הלמס"פ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.83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מיליון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2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 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1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7200" y="4724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57200" y="3581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57200" y="2438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57200" y="1295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4800" y="4510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57200" y="5867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800" y="5653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59880" y="18032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1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 משרד הבריאות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489400" y="2144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ספת לידות</a:t>
            </a:r>
            <a:r>
              <a:rPr b="1" lang="he-I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70280" y="25146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167652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335400" y="76320"/>
            <a:ext cx="2043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טעויות 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גיר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20080" y="17780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8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21960" y="213372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420080" y="255888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543040" y="1676520"/>
            <a:ext cx="137160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43040" y="2209680"/>
            <a:ext cx="1371600" cy="1526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43040" y="2362320"/>
            <a:ext cx="1371600" cy="685800"/>
          </a:xfrm>
          <a:prstGeom prst="rect">
            <a:avLst/>
          </a:pr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43040" y="3048120"/>
            <a:ext cx="1371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-53640" y="789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7400" y="1066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80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800" y="33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219320"/>
            <a:ext cx="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710760" y="1065240"/>
            <a:ext cx="25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תחזית הלמס"פ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.83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מיליון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2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 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1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57200" y="4724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57200" y="3581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57200" y="2438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57200" y="1295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800" y="4510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457200" y="5867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4800" y="5653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459880" y="18032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1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 משרד הבריאות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89400" y="2144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ספת לידות</a:t>
            </a:r>
            <a:r>
              <a:rPr b="1" lang="he-I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70280" y="25146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628360" y="300996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לישרא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167652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335400" y="76320"/>
            <a:ext cx="2043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טעויות 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גירה לישרא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420080" y="17780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8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21960" y="213372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20080" y="255888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20080" y="30114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5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543040" y="1676520"/>
            <a:ext cx="137160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43040" y="2209680"/>
            <a:ext cx="1371600" cy="1526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43040" y="2362320"/>
            <a:ext cx="1371600" cy="685800"/>
          </a:xfrm>
          <a:prstGeom prst="rect">
            <a:avLst/>
          </a:pr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43040" y="3048120"/>
            <a:ext cx="1371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43040" y="3276720"/>
            <a:ext cx="1371600" cy="5331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53640" y="789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7400" y="1066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80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800" y="33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1219320"/>
            <a:ext cx="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710760" y="1065240"/>
            <a:ext cx="25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תחזית הלמס"פ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.83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מיליון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2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 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1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57200" y="4724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457200" y="3581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57200" y="2438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57200" y="1295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4800" y="4510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57200" y="5867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4800" y="5653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59880" y="18032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1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 משרד הבריאות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89400" y="2144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ספת לידות</a:t>
            </a:r>
            <a:r>
              <a:rPr b="1" lang="he-I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70280" y="25146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28360" y="300996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לישרא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81200" y="338472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רושלי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167652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335400" y="76320"/>
            <a:ext cx="2043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טעויות 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ערביי ירושל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420080" y="17780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8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21960" y="213372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420080" y="255888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20080" y="30114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5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20080" y="339732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543040" y="1676520"/>
            <a:ext cx="137160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43040" y="2209680"/>
            <a:ext cx="1371600" cy="1526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543040" y="2362320"/>
            <a:ext cx="1371600" cy="685800"/>
          </a:xfrm>
          <a:prstGeom prst="rect">
            <a:avLst/>
          </a:pr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43040" y="3048120"/>
            <a:ext cx="1371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43040" y="3276720"/>
            <a:ext cx="1371600" cy="5331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543040" y="3809880"/>
            <a:ext cx="1371600" cy="76212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-53640" y="789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7400" y="1066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80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4800" y="33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1219320"/>
            <a:ext cx="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710760" y="1065240"/>
            <a:ext cx="25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תחזית הלמס"פ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.83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מיליון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2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 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1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57200" y="4724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57200" y="3581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457200" y="2438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57200" y="1295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800" y="4510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57200" y="5867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800" y="5653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59880" y="18032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1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 משרד הבריאות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489400" y="2144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ספת לידות</a:t>
            </a:r>
            <a:r>
              <a:rPr b="1" lang="he-I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70280" y="25146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628360" y="300996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לישרא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81200" y="338472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רושלי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01080" y="400068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שבי</a:t>
            </a:r>
            <a:r>
              <a:rPr b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חו"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520" y="167652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335400" y="76320"/>
            <a:ext cx="2043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טעויות 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תושבי חו"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420080" y="17780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8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21960" y="213372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420080" y="255888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420080" y="30114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5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420080" y="339732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420080" y="40068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5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43040" y="1676520"/>
            <a:ext cx="137160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43040" y="2209680"/>
            <a:ext cx="1371600" cy="1526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43040" y="2362320"/>
            <a:ext cx="1371600" cy="685800"/>
          </a:xfrm>
          <a:prstGeom prst="rect">
            <a:avLst/>
          </a:prstGeom>
          <a:solidFill>
            <a:srgbClr val="cc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43040" y="3048120"/>
            <a:ext cx="1371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543040" y="3276720"/>
            <a:ext cx="1371600" cy="5331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43040" y="3809880"/>
            <a:ext cx="1371600" cy="76212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543040" y="4572000"/>
            <a:ext cx="137160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53640" y="789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400" y="1066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80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4800" y="33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33520" y="1219320"/>
            <a:ext cx="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710760" y="1065240"/>
            <a:ext cx="25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תחזית הלמס"פ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.83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מיליון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2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 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1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57200" y="4724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57200" y="3581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57200" y="2438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57200" y="1295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4800" y="4510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57200" y="5867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4800" y="5653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59880" y="18032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1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 משרד הבריאות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489400" y="2144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1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ספת לידות</a:t>
            </a:r>
            <a:r>
              <a:rPr b="1" lang="he-I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32680" y="2565360"/>
            <a:ext cx="2112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פער ש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he-I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34 </a:t>
            </a:r>
            <a:r>
              <a:rPr b="1" i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מיליו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543040" y="1523880"/>
            <a:ext cx="137160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984760" y="1459080"/>
            <a:ext cx="56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טירות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3520" y="472428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70280" y="25146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628360" y="300996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לישרא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581200" y="338472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רושלי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701080" y="400068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שבי</a:t>
            </a:r>
            <a:r>
              <a:rPr b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חו"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720880" y="4519440"/>
            <a:ext cx="98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ער</a:t>
            </a:r>
            <a:r>
              <a:rPr b="1" lang="he-I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1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על</a:t>
            </a:r>
            <a:r>
              <a:rPr b="1" lang="he-I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1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למ"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3520" y="167652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33280" y="4849920"/>
            <a:ext cx="275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ממצאי המחקר    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.49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מיליון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1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      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08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50520" y="565200"/>
            <a:ext cx="15811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019320" y="76320"/>
            <a:ext cx="26755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טעויות 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פער של מיליון אנש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20080" y="17780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8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521960" y="213372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521960" y="139716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420080" y="255888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20080" y="30114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5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420080" y="339732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420080" y="40068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5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20080" y="444492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3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831960" y="1203480"/>
            <a:ext cx="6120" cy="3809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12680" y="988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733320" y="34894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733320" y="31082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33320" y="27273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33320" y="23464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733320" y="19652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33320" y="15843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755640" y="8229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33320" y="50133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55640" y="46324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755640" y="42512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755640" y="38703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755640" y="34894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6094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26800" y="175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0040" y="2498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0040" y="3274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30040" y="4037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30040" y="479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652160" y="187956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הגדמ"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62960" y="241776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שרא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641720" y="2641680"/>
            <a:ext cx="1258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ולים שאינם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 כהלכ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678800" y="3255840"/>
            <a:ext cx="68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68360" y="14270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עז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193760" y="5127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51120" y="-15840"/>
            <a:ext cx="198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חלוקת אוכלוסי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1967 –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66680" y="4114800"/>
            <a:ext cx="838440" cy="8985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4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066680" y="3962520"/>
            <a:ext cx="838440" cy="1522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4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066680" y="3733920"/>
            <a:ext cx="838440" cy="228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6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66680" y="3581280"/>
            <a:ext cx="838440" cy="1526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35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9480" y="5024520"/>
            <a:ext cx="767412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36760" y="5127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09680" y="3657600"/>
            <a:ext cx="838440" cy="13557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5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09680" y="3352680"/>
            <a:ext cx="838440" cy="30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75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09680" y="3048120"/>
            <a:ext cx="838440" cy="3045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8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209680" y="2819520"/>
            <a:ext cx="838440" cy="2286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5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79760" y="5127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352680" y="3505320"/>
            <a:ext cx="838440" cy="1508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9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352680" y="3124080"/>
            <a:ext cx="838440" cy="38124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9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352680" y="2743200"/>
            <a:ext cx="83844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95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352680" y="2514600"/>
            <a:ext cx="838440" cy="2286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65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622760" y="5127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95680" y="3276720"/>
            <a:ext cx="838440" cy="1736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6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95680" y="2819520"/>
            <a:ext cx="838440" cy="3808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0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95680" y="2362320"/>
            <a:ext cx="83844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15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8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65760" y="5127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638680" y="3124080"/>
            <a:ext cx="838440" cy="1889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2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638680" y="2590920"/>
            <a:ext cx="838440" cy="45720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38680" y="2133720"/>
            <a:ext cx="83844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38680" y="1752480"/>
            <a:ext cx="838440" cy="3812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98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908760" y="5127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81680" y="3048120"/>
            <a:ext cx="838440" cy="19652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4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781680" y="2362320"/>
            <a:ext cx="838440" cy="53316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81680" y="1828800"/>
            <a:ext cx="83844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40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81680" y="1447920"/>
            <a:ext cx="838440" cy="3808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07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495680" y="3200400"/>
            <a:ext cx="838440" cy="763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81680" y="2895480"/>
            <a:ext cx="838440" cy="15264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638680" y="3048120"/>
            <a:ext cx="838440" cy="7596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198080" y="3284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7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3400" y="2522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.6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485520" y="22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.4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596840" y="1760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.6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771520" y="14558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.7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14520" y="1150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.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77320" y="568656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חלוקת אוכלוסין מאז 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67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לפי נתוני הלמ"ס וממצאי המחק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831960" y="838080"/>
            <a:ext cx="612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14120" y="623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733320" y="3124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33320" y="27432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733320" y="23623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33320" y="1981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733320" y="16002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33320" y="12193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755640" y="8229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733320" y="46483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755640" y="4267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755640" y="38862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55640" y="35053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55640" y="3124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-87120" y="179280"/>
            <a:ext cx="146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Arial"/>
                <a:cs typeface="Arial"/>
              </a:rPr>
              <a:t>אחוזי אוכלוסי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Arial"/>
                <a:cs typeface="Arial"/>
              </a:rPr>
              <a:t>מערב לירד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71360" y="1386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71360" y="2133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71360" y="2909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71360" y="3672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8600" y="4433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560360" y="13730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הגדמ"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573680" y="183024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שרא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552800" y="213516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ולים שאינם</a:t>
            </a:r>
            <a:r>
              <a:rPr b="0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 כהלכ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593120" y="2798640"/>
            <a:ext cx="7416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580160" y="87012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עז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19376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066680" y="2209680"/>
            <a:ext cx="838440" cy="243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4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1828800"/>
            <a:ext cx="838440" cy="3808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.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1219320"/>
            <a:ext cx="83844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66680" y="838080"/>
            <a:ext cx="838440" cy="3812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.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33676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2286000"/>
            <a:ext cx="838440" cy="2362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2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209680" y="1752480"/>
            <a:ext cx="838440" cy="5335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209680" y="1219320"/>
            <a:ext cx="838440" cy="5331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838080"/>
            <a:ext cx="838440" cy="3812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47976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352680" y="2286000"/>
            <a:ext cx="838440" cy="2362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1.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352680" y="1752480"/>
            <a:ext cx="838440" cy="5335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.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352680" y="1219320"/>
            <a:ext cx="838440" cy="5331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352680" y="838080"/>
            <a:ext cx="838440" cy="3812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.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2276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495680" y="2362320"/>
            <a:ext cx="838440" cy="2286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495680" y="1752480"/>
            <a:ext cx="838440" cy="5335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.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495680" y="1219320"/>
            <a:ext cx="838440" cy="5331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.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838080"/>
            <a:ext cx="838440" cy="3812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76576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638680" y="2438280"/>
            <a:ext cx="838440" cy="221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9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38680" y="1828800"/>
            <a:ext cx="838440" cy="45720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638680" y="1295280"/>
            <a:ext cx="83844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638680" y="838080"/>
            <a:ext cx="83844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.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8328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705720" y="2514600"/>
            <a:ext cx="838080" cy="2133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9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705720" y="1828800"/>
            <a:ext cx="838080" cy="5335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05720" y="1295280"/>
            <a:ext cx="8380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.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705720" y="838080"/>
            <a:ext cx="8380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.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95680" y="2286000"/>
            <a:ext cx="838440" cy="763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638680" y="2286000"/>
            <a:ext cx="838440" cy="15228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705720" y="2362320"/>
            <a:ext cx="838080" cy="15228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-457200" y="5000760"/>
            <a:ext cx="9601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חוז היהודים באוכלוסיית ישראל והשטחים, מ-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67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הו יציב-יחסית: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9%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רוב יהודי (כולל עולים שאינם מוגדרים יהודים כהלכה)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אוכלוסייה הערבית של דרוזים, ערבים-נוצרים ומוסלמים, בישראל, גדלה בקצב המהיר ביותר, גם עקב הגירה מהגדמ"ע ומעזה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חוז ערביי הגדמ"ע ועזה מכלל האוכלוסייה (מערבית לירדן) נשאר כ-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אז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67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חוקרים רבים מתייחסים לעולים שאינם מוגדרים יהודים כהלכה כ"פלסטינים ואחרים".  הלמ"ס מגדירה אותם כ"יהודים ואחרים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שראל הופכת לחברה רב-תרבותית ולא לחברה יותר פלסטינית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21760" y="0"/>
            <a:ext cx="3015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חלוקת אוכלוסין באחוז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1967 –200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4648320"/>
            <a:ext cx="767412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520800" y="0"/>
            <a:ext cx="2248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חלוקת אוכלוסי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ישראל, הגדמ"ע ועז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ילת </a:t>
            </a:r>
            <a:r>
              <a:rPr b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0" y="1090440"/>
          <a:ext cx="3200400" cy="29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0440"/>
                    <a:ext cx="320040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3200400" y="1143000"/>
          <a:ext cx="3200400" cy="29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143000"/>
                    <a:ext cx="32004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6095880" y="1104840"/>
          <a:ext cx="3200400" cy="29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104840"/>
                    <a:ext cx="320040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"/>
          <p:cNvSpPr/>
          <p:nvPr/>
        </p:nvSpPr>
        <p:spPr>
          <a:xfrm>
            <a:off x="7464960" y="23623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יהוד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475880" y="23511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יהוד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292760" y="23511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יהוד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842160" y="1663560"/>
            <a:ext cx="7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18520" y="166356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שרא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192360" y="1816200"/>
            <a:ext cx="59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47680" y="166356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שרא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25920" y="1644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הגדמ"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394640" y="162576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שרא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29800" y="3468600"/>
            <a:ext cx="1819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ישרא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1%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.ערבים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84400" y="3475080"/>
            <a:ext cx="18248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ישראל והגדמ"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7%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/ערבים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03720" y="3471840"/>
            <a:ext cx="20325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ישראל, הגדמ"ע ועז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9%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/ערבים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64320" y="203976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וייכים ליהודי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735120" y="1292400"/>
            <a:ext cx="6120" cy="3809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320" y="11016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636480" y="3578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636480" y="3197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636480" y="2816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636480" y="2435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636480" y="2054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636480" y="1673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755640" y="8229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36480" y="5102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658800" y="4721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658800" y="4340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658800" y="3959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658800" y="3578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-30960" y="55872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שנתי מצטב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-2880" y="18637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-2880" y="26114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-2880" y="33876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-2880" y="41497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7760" y="49118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94400" y="-15840"/>
            <a:ext cx="255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שעורי גידול אוכלוסי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955240" y="304920"/>
            <a:ext cx="3379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he-IL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נחות תחזית הלמס"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003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550880" y="5102280"/>
            <a:ext cx="838440" cy="30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550880" y="2130480"/>
            <a:ext cx="838440" cy="297180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6480" y="1292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550880" y="1063800"/>
            <a:ext cx="838440" cy="10666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689840" y="163656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.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691280" y="51022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691280" y="21304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9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09480" y="510228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744280" y="16207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הגיר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749680" y="25560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ילוד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733120" y="514656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פטיר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39240" y="5445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46320" y="136836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96040" y="118440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 גידול </a:t>
            </a:r>
            <a:r>
              <a:rPr b="1" i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-380880" y="6148440"/>
            <a:ext cx="975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מ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הניחה גידול אוכלוסין הגדול בעולם (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9%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ריבוי טבעי דומה והגירה מסיבית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300320"/>
            <a:ext cx="4819680" cy="3514680"/>
          </a:xfrm>
          <a:custGeom>
            <a:avLst/>
            <a:gdLst/>
            <a:ahLst/>
            <a:rect l="l" t="t" r="r" b="b"/>
            <a:pathLst>
              <a:path w="3036" h="2214">
                <a:moveTo>
                  <a:pt x="0" y="2214"/>
                </a:moveTo>
                <a:cubicBezTo>
                  <a:pt x="0" y="1856"/>
                  <a:pt x="0" y="1498"/>
                  <a:pt x="0" y="1140"/>
                </a:cubicBezTo>
                <a:lnTo>
                  <a:pt x="192" y="1110"/>
                </a:lnTo>
                <a:lnTo>
                  <a:pt x="348" y="1056"/>
                </a:lnTo>
                <a:lnTo>
                  <a:pt x="528" y="1014"/>
                </a:lnTo>
                <a:cubicBezTo>
                  <a:pt x="677" y="964"/>
                  <a:pt x="636" y="1002"/>
                  <a:pt x="684" y="954"/>
                </a:cubicBezTo>
                <a:cubicBezTo>
                  <a:pt x="744" y="926"/>
                  <a:pt x="807" y="900"/>
                  <a:pt x="864" y="867"/>
                </a:cubicBezTo>
                <a:cubicBezTo>
                  <a:pt x="898" y="847"/>
                  <a:pt x="834" y="872"/>
                  <a:pt x="858" y="864"/>
                </a:cubicBezTo>
                <a:lnTo>
                  <a:pt x="1008" y="822"/>
                </a:lnTo>
                <a:lnTo>
                  <a:pt x="1200" y="726"/>
                </a:lnTo>
                <a:lnTo>
                  <a:pt x="1344" y="678"/>
                </a:lnTo>
                <a:lnTo>
                  <a:pt x="1536" y="582"/>
                </a:lnTo>
                <a:cubicBezTo>
                  <a:pt x="1688" y="531"/>
                  <a:pt x="1631" y="546"/>
                  <a:pt x="1704" y="528"/>
                </a:cubicBezTo>
                <a:lnTo>
                  <a:pt x="1872" y="438"/>
                </a:lnTo>
                <a:lnTo>
                  <a:pt x="2016" y="390"/>
                </a:lnTo>
                <a:lnTo>
                  <a:pt x="2208" y="294"/>
                </a:lnTo>
                <a:lnTo>
                  <a:pt x="2352" y="246"/>
                </a:lnTo>
                <a:lnTo>
                  <a:pt x="2544" y="189"/>
                </a:lnTo>
                <a:lnTo>
                  <a:pt x="2736" y="102"/>
                </a:lnTo>
                <a:lnTo>
                  <a:pt x="2880" y="54"/>
                </a:lnTo>
                <a:lnTo>
                  <a:pt x="3036" y="0"/>
                </a:lnTo>
                <a:lnTo>
                  <a:pt x="3036" y="2214"/>
                </a:lnTo>
                <a:lnTo>
                  <a:pt x="0" y="2214"/>
                </a:lnTo>
                <a:close/>
              </a:path>
            </a:pathLst>
          </a:cu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2143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720" y="27716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3720" y="33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760" y="4038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9480" y="3581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9480" y="41911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9480" y="29862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09480" y="2371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4440" y="4890960"/>
            <a:ext cx="53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‘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7            2000                      2005                      2010                      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53640" y="5605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7120" y="54000"/>
            <a:ext cx="295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ערביי הגדמ"ע ועז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תחזית הלמס"פ מ-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(1997 - 201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20" y="5195880"/>
            <a:ext cx="47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ource:  Palestine Central Bureau of Statistics, Demographic Indicators of the Palestinian Terrtory, 1997 - 201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316480"/>
            <a:ext cx="879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וספת תחזית הלמס"פ (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8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 ב-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למספר ערביי ישראל (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מראה – לכאורה – שמספר הערב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קול כמעט למספר היהודים, מערבה לירדן.  גידול מהיר זה של הערבים יהפוך את היהודים למיעוט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1574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3720" y="15336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09480" y="17622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3720" y="928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9480" y="1157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590920" y="2438280"/>
            <a:ext cx="3047760" cy="106704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" y="4800240"/>
            <a:ext cx="50292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94880" y="1195560"/>
            <a:ext cx="3818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היא הבסיס לדיווחים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ל האוכלוסיה הפלסטינית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 – 2.78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5 – 5.81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,827,9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נחת הלמס"פ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%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7 – 2004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אוכלוסי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בוה בעולם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735120" y="1292400"/>
            <a:ext cx="6120" cy="3809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2320" y="11016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33160" y="357840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533160" y="31971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33160" y="28162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33160" y="243540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533160" y="20541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533160" y="16732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755640" y="8229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33160" y="51022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55480" y="4721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55480" y="4340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55480" y="3959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55480" y="35784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-35280" y="53496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שנתי מצטב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-2880" y="18637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-2880" y="26114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-2880" y="33876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-2880" y="41497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7760" y="49118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129840" y="0"/>
            <a:ext cx="203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שפעת ההגיר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847960" y="304920"/>
            <a:ext cx="3138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</a:t>
            </a:r>
            <a:r>
              <a:rPr b="1" lang="he-IL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למס"פ לעומת המחק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003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523880" y="5029200"/>
            <a:ext cx="838440" cy="30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523880" y="2133720"/>
            <a:ext cx="838440" cy="297180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33160" y="129240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525680" y="1063800"/>
            <a:ext cx="838080" cy="10666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678680" y="106380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.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662840" y="5105520"/>
            <a:ext cx="10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4%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704240" y="21304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9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9480" y="510552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738160" y="161784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הגיר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84600" y="2556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724120" y="51228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פטיר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27280" y="5470560"/>
            <a:ext cx="22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חזית הלמס"פ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20760" y="136836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688120" y="116064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עור גידול </a:t>
            </a:r>
            <a:r>
              <a:rPr b="1" i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257800" y="2359080"/>
            <a:ext cx="838080" cy="274320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01440" y="25732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257800" y="5102280"/>
            <a:ext cx="838080" cy="30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399640" y="51022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257800" y="5407200"/>
            <a:ext cx="838080" cy="38088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399640" y="542592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257800" y="5788080"/>
            <a:ext cx="838080" cy="45720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399640" y="5854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456600" y="255744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ריבוי טבע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440040" y="54324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לחו"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24200" y="58514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פנימית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416640" y="50688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פטיר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979880" y="353376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25280" y="332568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 גידול</a:t>
            </a:r>
            <a:r>
              <a:rPr b="1" i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726440" y="180504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מצאי המחק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-1143000" y="6211800"/>
            <a:ext cx="990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מרות שיעור גבוה של ריבוי טבעי, אך עקב הגירה-שלילית-נטו, יורד שיעור גידול האוכלוסי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גדמ"ע ובעזה ל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%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ב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819520" y="32004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ריבוי טבע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31800" y="1368360"/>
            <a:ext cx="648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2320" y="11779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533160" y="36543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533160" y="32734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533160" y="289260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33160" y="25113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33160" y="21304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533160" y="174960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55640" y="8229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533160" y="517860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55480" y="47973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555480" y="44164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555480" y="4035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555480" y="36543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-90000" y="6112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גידול מצטבר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-2880" y="19400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-2880" y="26877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-2880" y="34639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-2880" y="42260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7760" y="4987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662560" y="-15840"/>
            <a:ext cx="280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שיעורי גידול אוכלוסיי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173040" y="304920"/>
            <a:ext cx="247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7 – 2003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581280" y="2664000"/>
            <a:ext cx="838440" cy="251460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715000" y="2968560"/>
            <a:ext cx="838080" cy="221004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648320" y="3807000"/>
            <a:ext cx="838080" cy="1371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533160" y="13683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551680" y="51037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592800" y="5103720"/>
            <a:ext cx="8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שרא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611600" y="5103720"/>
            <a:ext cx="8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דמ"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95280" y="5103720"/>
            <a:ext cx="6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514600" y="3578400"/>
            <a:ext cx="838080" cy="1600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567160" y="320040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654360" y="228600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721400" y="342900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788080" y="259092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9480" y="517860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648320" y="1825560"/>
            <a:ext cx="838080" cy="198144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700520" y="144792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715000" y="1596960"/>
            <a:ext cx="838080" cy="1371600"/>
          </a:xfrm>
          <a:prstGeom prst="rect">
            <a:avLst/>
          </a:prstGeom>
          <a:noFill/>
          <a:ln w="38160">
            <a:solidFill>
              <a:srgbClr val="ff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778360" y="120024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727320" y="809640"/>
            <a:ext cx="23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תחזית שיעורי גידו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וכלוסייה של הלמס"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מ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6705360" y="159696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-351000" y="5691240"/>
            <a:ext cx="949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אז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קטן גידול האוכלוסייה בשטחים, באופן משמעותי, מתחזית הלמס"פ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דול בגדמ"ע (ריבוי טבעי פחות הגירה שלילית) קטן מהגידול היהודי (ריבוי טבעי ועוד הגירה חיובית)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ערביי ישראל ניזון , חלקית, מהגירה מהגדמ"ע ומעזה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 flipH="1">
            <a:off x="668160" y="13050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62120" y="1359000"/>
            <a:ext cx="5105160" cy="180720"/>
          </a:xfrm>
          <a:custGeom>
            <a:avLst/>
            <a:gdLst/>
            <a:ahLst/>
            <a:rect l="l" t="t" r="r" b="b"/>
            <a:pathLst>
              <a:path w="3216" h="114">
                <a:moveTo>
                  <a:pt x="0" y="0"/>
                </a:moveTo>
                <a:lnTo>
                  <a:pt x="856" y="56"/>
                </a:lnTo>
                <a:lnTo>
                  <a:pt x="1638" y="114"/>
                </a:lnTo>
                <a:lnTo>
                  <a:pt x="2424" y="16"/>
                </a:lnTo>
                <a:lnTo>
                  <a:pt x="3216" y="104"/>
                </a:ln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62120" y="1689120"/>
            <a:ext cx="5105160" cy="304920"/>
          </a:xfrm>
          <a:custGeom>
            <a:avLst/>
            <a:gdLst/>
            <a:ahLst/>
            <a:rect l="l" t="t" r="r" b="b"/>
            <a:pathLst>
              <a:path w="3216" h="192">
                <a:moveTo>
                  <a:pt x="0" y="0"/>
                </a:moveTo>
                <a:lnTo>
                  <a:pt x="856" y="96"/>
                </a:lnTo>
                <a:lnTo>
                  <a:pt x="1632" y="176"/>
                </a:lnTo>
                <a:lnTo>
                  <a:pt x="2416" y="192"/>
                </a:lnTo>
                <a:lnTo>
                  <a:pt x="3216" y="64"/>
                </a:lnTo>
              </a:path>
            </a:pathLst>
          </a:cu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762120" y="1305000"/>
            <a:ext cx="1440" cy="303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7120" y="11430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668160" y="25239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668160" y="19144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668160" y="13050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90480" y="31338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690480" y="43527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690480" y="3743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2680" y="689040"/>
            <a:ext cx="132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Arial"/>
                <a:cs typeface="Arial"/>
              </a:rPr>
              <a:t>שעורי פר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F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7120" y="23302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7120" y="35593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23880" y="4394160"/>
            <a:ext cx="612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00                    2001                    2002                   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62120" y="4338720"/>
            <a:ext cx="556236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09880" y="172728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238560" y="184140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734080" y="167652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87120" y="41688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87120" y="29401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87120" y="17208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495680" y="190512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815520" y="1042920"/>
            <a:ext cx="15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סקירת בתי א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מס"פ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7520" y="4648320"/>
            <a:ext cx="57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Israel Central Bureau of Statistics Website, ICBS Annual Yearbook 2004, Tables 3.12, 3.13 and 3.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 Ministry of Health Reports 200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57360" y="156204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03040" y="521496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ם מחשבים את שיעור הפריון לפי מספר אוכלוסין שאינו כולל את תושבי חו"ל, מתאימים נתוני משרד הבריאות הפלסטיני לשיעורי הגידול של הלמס"פ (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ילדים לאשה בגדמ"ע ו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6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בעזה)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47640" y="1244520"/>
            <a:ext cx="228600" cy="22860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009880" y="1320840"/>
            <a:ext cx="228600" cy="22860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251160" y="1409760"/>
            <a:ext cx="228600" cy="22860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508640" y="1270080"/>
            <a:ext cx="228600" cy="22860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53160" y="1397160"/>
            <a:ext cx="228600" cy="22860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424520" y="-12600"/>
            <a:ext cx="483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שעורי פריון בגדמ"ע ובעזה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697200" y="320760"/>
            <a:ext cx="19072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ממצאי המחק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9 -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613480" y="91440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626080" y="17654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122880" y="1614600"/>
            <a:ext cx="10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.2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דמ"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146640" y="714240"/>
            <a:ext cx="8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.6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 flipV="1">
            <a:off x="6552720" y="990720"/>
            <a:ext cx="3812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6552720" y="1371600"/>
            <a:ext cx="3812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762120" y="2251080"/>
            <a:ext cx="5095800" cy="142920"/>
          </a:xfrm>
          <a:custGeom>
            <a:avLst/>
            <a:gdLst/>
            <a:ahLst/>
            <a:rect l="l" t="t" r="r" b="b"/>
            <a:pathLst>
              <a:path w="3210" h="90">
                <a:moveTo>
                  <a:pt x="0" y="12"/>
                </a:moveTo>
                <a:lnTo>
                  <a:pt x="858" y="0"/>
                </a:lnTo>
                <a:lnTo>
                  <a:pt x="1638" y="18"/>
                </a:lnTo>
                <a:lnTo>
                  <a:pt x="2418" y="72"/>
                </a:lnTo>
                <a:lnTo>
                  <a:pt x="3210" y="90"/>
                </a:ln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71480" y="3251160"/>
            <a:ext cx="5076720" cy="85680"/>
          </a:xfrm>
          <a:custGeom>
            <a:avLst/>
            <a:gdLst/>
            <a:ahLst/>
            <a:rect l="l" t="t" r="r" b="b"/>
            <a:pathLst>
              <a:path w="3198" h="54">
                <a:moveTo>
                  <a:pt x="0" y="36"/>
                </a:moveTo>
                <a:lnTo>
                  <a:pt x="852" y="36"/>
                </a:lnTo>
                <a:lnTo>
                  <a:pt x="1632" y="54"/>
                </a:lnTo>
                <a:lnTo>
                  <a:pt x="2418" y="48"/>
                </a:lnTo>
                <a:lnTo>
                  <a:pt x="3198" y="0"/>
                </a:ln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52400" y="2432160"/>
            <a:ext cx="5095800" cy="419040"/>
          </a:xfrm>
          <a:custGeom>
            <a:avLst/>
            <a:gdLst/>
            <a:ahLst/>
            <a:rect l="l" t="t" r="r" b="b"/>
            <a:pathLst>
              <a:path w="3210" h="264">
                <a:moveTo>
                  <a:pt x="0" y="0"/>
                </a:moveTo>
                <a:lnTo>
                  <a:pt x="858" y="36"/>
                </a:lnTo>
                <a:lnTo>
                  <a:pt x="1638" y="156"/>
                </a:lnTo>
                <a:lnTo>
                  <a:pt x="2430" y="186"/>
                </a:lnTo>
                <a:lnTo>
                  <a:pt x="3210" y="264"/>
                </a:lnTo>
              </a:path>
            </a:pathLst>
          </a:cu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62120" y="1870200"/>
            <a:ext cx="5095800" cy="180720"/>
          </a:xfrm>
          <a:custGeom>
            <a:avLst/>
            <a:gdLst/>
            <a:ahLst/>
            <a:rect l="l" t="t" r="r" b="b"/>
            <a:pathLst>
              <a:path w="3210" h="114">
                <a:moveTo>
                  <a:pt x="0" y="0"/>
                </a:moveTo>
                <a:lnTo>
                  <a:pt x="858" y="42"/>
                </a:lnTo>
                <a:lnTo>
                  <a:pt x="1638" y="114"/>
                </a:lnTo>
                <a:lnTo>
                  <a:pt x="2424" y="72"/>
                </a:lnTo>
                <a:lnTo>
                  <a:pt x="3210" y="114"/>
                </a:ln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009880" y="213660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495680" y="225108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743440" y="227952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62120" y="1279440"/>
            <a:ext cx="1440" cy="303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87120" y="1117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668160" y="24987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668160" y="1889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68160" y="1279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690480" y="31082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690480" y="43275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690480" y="3718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8960" y="665280"/>
            <a:ext cx="137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פריון</a:t>
            </a:r>
            <a:r>
              <a:rPr b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TF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7120" y="23050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7120" y="353376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11280" y="4394160"/>
            <a:ext cx="55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99                    2000                    2001                    2002                   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62120" y="4313160"/>
            <a:ext cx="767376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009880" y="236520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238560" y="256536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734080" y="273672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422000" y="-12600"/>
            <a:ext cx="395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שיעורי פריון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11560" y="304920"/>
            <a:ext cx="4754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נתוני הלמ"ס ומשרד הבריאות הפלסטינ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9 – 2003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87120" y="41432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7120" y="291456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7120" y="16956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495680" y="260352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743440" y="1936800"/>
            <a:ext cx="228600" cy="2286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495680" y="1879560"/>
            <a:ext cx="228600" cy="2286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009880" y="1822320"/>
            <a:ext cx="228600" cy="2286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47640" y="1755720"/>
            <a:ext cx="228600" cy="2286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7920" y="1927080"/>
            <a:ext cx="228600" cy="2286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734080" y="313704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505400" y="321300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247920" y="322272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009880" y="319392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7360" y="319392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960160" y="1805040"/>
            <a:ext cx="1384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עז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שרא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הגדמ"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הוד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98280" y="4621320"/>
            <a:ext cx="733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ICBS, Israel Statistical Abstract, PA Ministry of Health Reports 200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38560" y="216540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7640" y="2146320"/>
            <a:ext cx="228600" cy="228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57360" y="2317680"/>
            <a:ext cx="228600" cy="228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03040" y="4915080"/>
            <a:ext cx="882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הפריון של הגדמ"ע ועזה, הנובעים מממצאי המחקר, גבוהים יותר משיעורי משרד הבריאות הפלסטיני.  הם משקפים מגמה לקראת שוויון בין נתוני הפריון היהודי ופריון הגדמ"ע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 הפריון של משרד הבריאות הפלסטיני מחושב על בסיס נתונים מנופח של הלמס"פ, ולכן הוא נמוך מד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רד הבריאות הפלסטיני עומד על נתוני הלידה שלו בדו"ח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5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התואמים את נתוני משרד החינוך) , למרות אי-ההסכמה עם הלמס"פ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3308040" y="-63360"/>
            <a:ext cx="250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הגדמ"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מגמת גידול אוכלוסי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1950-200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09480" y="441324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66360" y="442440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031840" y="44179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403440" y="44179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36680" y="2936880"/>
            <a:ext cx="2763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’</a:t>
            </a: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50-67 </a:t>
            </a:r>
            <a:r>
              <a:rPr b="1" lang="en-US" sz="900" spc="-1" strike="noStrike" u="sng">
                <a:solidFill>
                  <a:srgbClr val="ffffff"/>
                </a:solidFill>
                <a:uFillTx/>
                <a:latin typeface="Times New Roman"/>
              </a:rPr>
              <a:t>(20) (33)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שלטון ירד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נמוך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שלילית שיטתית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972160" y="1390680"/>
            <a:ext cx="17413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 ’</a:t>
            </a: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67-’85 </a:t>
            </a:r>
            <a:r>
              <a:rPr b="1" lang="he-IL" sz="16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שלטון ישראל</a:t>
            </a:r>
            <a:r>
              <a:rPr b="1" lang="he-IL" sz="11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בינוני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8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דרוג רפואי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633440" y="3287880"/>
            <a:ext cx="1453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’</a:t>
            </a: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00–’04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אוסלו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בינוני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8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טרור/מלחמה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לידה יורדים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שלילית שיטתית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62120" y="2009880"/>
            <a:ext cx="7762680" cy="1869840"/>
          </a:xfrm>
          <a:custGeom>
            <a:avLst/>
            <a:gdLst/>
            <a:ahLst/>
            <a:rect l="l" t="t" r="r" b="b"/>
            <a:pathLst>
              <a:path w="4890" h="1178">
                <a:moveTo>
                  <a:pt x="0" y="1178"/>
                </a:moveTo>
                <a:cubicBezTo>
                  <a:pt x="251" y="1165"/>
                  <a:pt x="1147" y="1177"/>
                  <a:pt x="1506" y="1100"/>
                </a:cubicBezTo>
                <a:cubicBezTo>
                  <a:pt x="1865" y="1023"/>
                  <a:pt x="1878" y="879"/>
                  <a:pt x="2153" y="713"/>
                </a:cubicBezTo>
                <a:cubicBezTo>
                  <a:pt x="2428" y="547"/>
                  <a:pt x="2897" y="208"/>
                  <a:pt x="3156" y="104"/>
                </a:cubicBezTo>
                <a:cubicBezTo>
                  <a:pt x="3415" y="0"/>
                  <a:pt x="3564" y="70"/>
                  <a:pt x="3708" y="86"/>
                </a:cubicBezTo>
                <a:cubicBezTo>
                  <a:pt x="3852" y="102"/>
                  <a:pt x="3913" y="141"/>
                  <a:pt x="4020" y="200"/>
                </a:cubicBezTo>
                <a:cubicBezTo>
                  <a:pt x="4127" y="259"/>
                  <a:pt x="4253" y="372"/>
                  <a:pt x="4350" y="440"/>
                </a:cubicBezTo>
                <a:cubicBezTo>
                  <a:pt x="4447" y="508"/>
                  <a:pt x="4512" y="552"/>
                  <a:pt x="4602" y="608"/>
                </a:cubicBezTo>
                <a:cubicBezTo>
                  <a:pt x="4692" y="664"/>
                  <a:pt x="4830" y="741"/>
                  <a:pt x="4890" y="77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775040" y="44179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146640" y="44179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518240" y="44179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09480" y="151776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541080" y="37846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541080" y="319392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800" y="35751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800" y="30034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541080" y="257184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800" y="23814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541080" y="189864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800" y="1708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384720" y="1984320"/>
            <a:ext cx="137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מותת תינוקות יורדת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חלת חיים עולה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64200" y="2355840"/>
            <a:ext cx="138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שלילית שיטתית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524200" y="1138320"/>
            <a:ext cx="18403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’</a:t>
            </a: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85-’95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שלטון ישראל</a:t>
            </a:r>
            <a:r>
              <a:rPr b="1" lang="he-IL" sz="11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גבוה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כלכל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ספר שנות הגירה חיובית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364080" y="2433600"/>
            <a:ext cx="12978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’</a:t>
            </a:r>
            <a:r>
              <a:rPr b="1" lang="en-US" sz="1100" spc="-1" strike="noStrike" u="sng">
                <a:solidFill>
                  <a:srgbClr val="ffffff"/>
                </a:solidFill>
                <a:uFillTx/>
                <a:latin typeface="Times New Roman"/>
              </a:rPr>
              <a:t>95-’00 </a:t>
            </a:r>
            <a:r>
              <a:rPr b="1" lang="he-IL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אוסלו</a:t>
            </a:r>
            <a:r>
              <a:rPr b="1" lang="he-IL" sz="11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בינוני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יעורי לידה  יורדים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1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שיטתית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30400" y="5105520"/>
            <a:ext cx="8799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האוכלוסין בגדמ"ע מאופיין ע"י שלבי התפתחות המקובלים בעולם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עור גידול האוכלוסין בגדמ"ע מתקרב לרמה (הנמוכה) של חברות מפותחות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ודומה לזה של יהודי ישראל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520" y="914400"/>
            <a:ext cx="175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עורי גידול אוכלוסי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נתיי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685800" y="1071720"/>
            <a:ext cx="4819680" cy="3514680"/>
          </a:xfrm>
          <a:custGeom>
            <a:avLst/>
            <a:gdLst/>
            <a:ahLst/>
            <a:rect l="l" t="t" r="r" b="b"/>
            <a:pathLst>
              <a:path w="3036" h="2214">
                <a:moveTo>
                  <a:pt x="0" y="2214"/>
                </a:moveTo>
                <a:cubicBezTo>
                  <a:pt x="0" y="1856"/>
                  <a:pt x="0" y="1498"/>
                  <a:pt x="0" y="1140"/>
                </a:cubicBezTo>
                <a:lnTo>
                  <a:pt x="192" y="1110"/>
                </a:lnTo>
                <a:lnTo>
                  <a:pt x="336" y="1062"/>
                </a:lnTo>
                <a:lnTo>
                  <a:pt x="528" y="1014"/>
                </a:lnTo>
                <a:cubicBezTo>
                  <a:pt x="677" y="964"/>
                  <a:pt x="636" y="1002"/>
                  <a:pt x="684" y="954"/>
                </a:cubicBezTo>
                <a:cubicBezTo>
                  <a:pt x="744" y="926"/>
                  <a:pt x="807" y="900"/>
                  <a:pt x="864" y="867"/>
                </a:cubicBezTo>
                <a:cubicBezTo>
                  <a:pt x="898" y="847"/>
                  <a:pt x="834" y="872"/>
                  <a:pt x="858" y="864"/>
                </a:cubicBezTo>
                <a:lnTo>
                  <a:pt x="1008" y="822"/>
                </a:lnTo>
                <a:lnTo>
                  <a:pt x="1200" y="726"/>
                </a:lnTo>
                <a:lnTo>
                  <a:pt x="1344" y="678"/>
                </a:lnTo>
                <a:lnTo>
                  <a:pt x="1536" y="582"/>
                </a:lnTo>
                <a:cubicBezTo>
                  <a:pt x="1688" y="531"/>
                  <a:pt x="1631" y="546"/>
                  <a:pt x="1704" y="528"/>
                </a:cubicBezTo>
                <a:lnTo>
                  <a:pt x="1872" y="438"/>
                </a:lnTo>
                <a:lnTo>
                  <a:pt x="2016" y="390"/>
                </a:lnTo>
                <a:lnTo>
                  <a:pt x="2208" y="294"/>
                </a:lnTo>
                <a:lnTo>
                  <a:pt x="2352" y="246"/>
                </a:lnTo>
                <a:lnTo>
                  <a:pt x="2544" y="189"/>
                </a:lnTo>
                <a:lnTo>
                  <a:pt x="2736" y="102"/>
                </a:lnTo>
                <a:lnTo>
                  <a:pt x="2880" y="54"/>
                </a:lnTo>
                <a:lnTo>
                  <a:pt x="3036" y="0"/>
                </a:lnTo>
                <a:lnTo>
                  <a:pt x="3036" y="2214"/>
                </a:lnTo>
                <a:lnTo>
                  <a:pt x="0" y="2214"/>
                </a:lnTo>
                <a:close/>
              </a:path>
            </a:pathLst>
          </a:cu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53720" y="1914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53720" y="25430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53720" y="3124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40760" y="38098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609480" y="3352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609480" y="39625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09480" y="2757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609480" y="2143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2680" y="27000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8960" y="5043600"/>
            <a:ext cx="437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ource:  Palestine Central Bureau of Statistics, Summary Statistics, Palestinian Territory, 1997 - 201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85800" y="4576680"/>
            <a:ext cx="619128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85800" y="9288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53720" y="1305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609480" y="1533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53720" y="7002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09480" y="9288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84280" y="76320"/>
            <a:ext cx="250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ערביי הגדמ"ע ועז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תחזית מעודכנת מ-</a:t>
            </a:r>
            <a:r>
              <a:rPr b="1" lang="he-I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(1997 - 201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087960" y="1598760"/>
            <a:ext cx="28688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כלוסיית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78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.81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כלוסיית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5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63240" y="4648320"/>
            <a:ext cx="542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97            2000                      2005                      2010                      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85800" y="1071720"/>
            <a:ext cx="4819680" cy="3514680"/>
          </a:xfrm>
          <a:custGeom>
            <a:avLst/>
            <a:gdLst/>
            <a:ahLst/>
            <a:rect l="l" t="t" r="r" b="b"/>
            <a:pathLst>
              <a:path w="3036" h="2214">
                <a:moveTo>
                  <a:pt x="0" y="2214"/>
                </a:moveTo>
                <a:cubicBezTo>
                  <a:pt x="0" y="1856"/>
                  <a:pt x="0" y="1498"/>
                  <a:pt x="0" y="1140"/>
                </a:cubicBezTo>
                <a:lnTo>
                  <a:pt x="192" y="1110"/>
                </a:lnTo>
                <a:lnTo>
                  <a:pt x="336" y="1062"/>
                </a:lnTo>
                <a:lnTo>
                  <a:pt x="528" y="1014"/>
                </a:lnTo>
                <a:cubicBezTo>
                  <a:pt x="677" y="964"/>
                  <a:pt x="636" y="1002"/>
                  <a:pt x="684" y="954"/>
                </a:cubicBezTo>
                <a:cubicBezTo>
                  <a:pt x="744" y="926"/>
                  <a:pt x="807" y="900"/>
                  <a:pt x="864" y="867"/>
                </a:cubicBezTo>
                <a:cubicBezTo>
                  <a:pt x="898" y="847"/>
                  <a:pt x="834" y="872"/>
                  <a:pt x="858" y="864"/>
                </a:cubicBezTo>
                <a:lnTo>
                  <a:pt x="1008" y="822"/>
                </a:lnTo>
                <a:lnTo>
                  <a:pt x="1200" y="726"/>
                </a:lnTo>
                <a:lnTo>
                  <a:pt x="1344" y="678"/>
                </a:lnTo>
                <a:lnTo>
                  <a:pt x="1536" y="582"/>
                </a:lnTo>
                <a:cubicBezTo>
                  <a:pt x="1688" y="531"/>
                  <a:pt x="1631" y="546"/>
                  <a:pt x="1704" y="528"/>
                </a:cubicBezTo>
                <a:lnTo>
                  <a:pt x="1872" y="438"/>
                </a:lnTo>
                <a:lnTo>
                  <a:pt x="2016" y="390"/>
                </a:lnTo>
                <a:lnTo>
                  <a:pt x="2208" y="294"/>
                </a:lnTo>
                <a:lnTo>
                  <a:pt x="2352" y="246"/>
                </a:lnTo>
                <a:lnTo>
                  <a:pt x="2544" y="189"/>
                </a:lnTo>
                <a:lnTo>
                  <a:pt x="2736" y="102"/>
                </a:lnTo>
                <a:lnTo>
                  <a:pt x="2880" y="54"/>
                </a:lnTo>
                <a:lnTo>
                  <a:pt x="3036" y="0"/>
                </a:lnTo>
                <a:lnTo>
                  <a:pt x="3036" y="2214"/>
                </a:lnTo>
                <a:lnTo>
                  <a:pt x="0" y="2214"/>
                </a:lnTo>
                <a:close/>
              </a:path>
            </a:pathLst>
          </a:cu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53720" y="1914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53720" y="25430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53720" y="3124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40760" y="38098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09480" y="33526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609480" y="39625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609480" y="2757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609480" y="2143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680" y="27000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8960" y="5043600"/>
            <a:ext cx="437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ource:  Palestine Central Bureau of Statistics, Summary Statistics, Palestinian Territory, 1997 - 201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4576680"/>
            <a:ext cx="619128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-152280" y="5530680"/>
            <a:ext cx="8918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חודשיים לאחר פרסום מחקר זה, מחקה הלמס"פ את הנחות ההגירה החיובית לגבי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1-2015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מחיקה צימצמה את אומדני הלמס"פ ב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,000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ב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וב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0,000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ב-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5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85800" y="9288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53720" y="1305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609480" y="15336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53720" y="7002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609480" y="9288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85800" y="1461960"/>
            <a:ext cx="4819680" cy="3105360"/>
          </a:xfrm>
          <a:custGeom>
            <a:avLst/>
            <a:gdLst/>
            <a:ahLst/>
            <a:rect l="l" t="t" r="r" b="b"/>
            <a:pathLst>
              <a:path w="3036" h="1956">
                <a:moveTo>
                  <a:pt x="0" y="1956"/>
                </a:moveTo>
                <a:cubicBezTo>
                  <a:pt x="0" y="1598"/>
                  <a:pt x="0" y="1240"/>
                  <a:pt x="0" y="882"/>
                </a:cubicBezTo>
                <a:lnTo>
                  <a:pt x="192" y="852"/>
                </a:lnTo>
                <a:lnTo>
                  <a:pt x="342" y="804"/>
                </a:lnTo>
                <a:lnTo>
                  <a:pt x="528" y="756"/>
                </a:lnTo>
                <a:cubicBezTo>
                  <a:pt x="677" y="706"/>
                  <a:pt x="636" y="756"/>
                  <a:pt x="684" y="708"/>
                </a:cubicBezTo>
                <a:cubicBezTo>
                  <a:pt x="744" y="680"/>
                  <a:pt x="837" y="681"/>
                  <a:pt x="894" y="648"/>
                </a:cubicBezTo>
                <a:cubicBezTo>
                  <a:pt x="928" y="628"/>
                  <a:pt x="870" y="650"/>
                  <a:pt x="894" y="642"/>
                </a:cubicBezTo>
                <a:lnTo>
                  <a:pt x="1038" y="600"/>
                </a:lnTo>
                <a:lnTo>
                  <a:pt x="1194" y="552"/>
                </a:lnTo>
                <a:lnTo>
                  <a:pt x="1362" y="498"/>
                </a:lnTo>
                <a:lnTo>
                  <a:pt x="1530" y="456"/>
                </a:lnTo>
                <a:cubicBezTo>
                  <a:pt x="1682" y="405"/>
                  <a:pt x="1648" y="438"/>
                  <a:pt x="1704" y="414"/>
                </a:cubicBezTo>
                <a:lnTo>
                  <a:pt x="1866" y="366"/>
                </a:lnTo>
                <a:lnTo>
                  <a:pt x="2022" y="312"/>
                </a:lnTo>
                <a:lnTo>
                  <a:pt x="2208" y="258"/>
                </a:lnTo>
                <a:lnTo>
                  <a:pt x="2370" y="222"/>
                </a:lnTo>
                <a:lnTo>
                  <a:pt x="2538" y="174"/>
                </a:lnTo>
                <a:lnTo>
                  <a:pt x="2712" y="120"/>
                </a:lnTo>
                <a:lnTo>
                  <a:pt x="2874" y="54"/>
                </a:lnTo>
                <a:lnTo>
                  <a:pt x="3036" y="0"/>
                </a:lnTo>
                <a:lnTo>
                  <a:pt x="3036" y="1956"/>
                </a:lnTo>
                <a:lnTo>
                  <a:pt x="0" y="1956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284280" y="76320"/>
            <a:ext cx="250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ערביי הגדמ"ע ועז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תחזית מעודכנת מ-</a:t>
            </a:r>
            <a:r>
              <a:rPr b="1" lang="he-I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(1997 - 201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087240" y="1598760"/>
            <a:ext cx="2870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כלוסיית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78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כלוסיית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5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09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63240" y="4648320"/>
            <a:ext cx="542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97            2000                      2005                      2010                      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685800" y="990720"/>
            <a:ext cx="4819680" cy="3514680"/>
          </a:xfrm>
          <a:custGeom>
            <a:avLst/>
            <a:gdLst/>
            <a:ahLst/>
            <a:rect l="l" t="t" r="r" b="b"/>
            <a:pathLst>
              <a:path w="3036" h="2214">
                <a:moveTo>
                  <a:pt x="0" y="2214"/>
                </a:moveTo>
                <a:cubicBezTo>
                  <a:pt x="0" y="1856"/>
                  <a:pt x="0" y="1498"/>
                  <a:pt x="0" y="1140"/>
                </a:cubicBezTo>
                <a:lnTo>
                  <a:pt x="192" y="1110"/>
                </a:lnTo>
                <a:lnTo>
                  <a:pt x="336" y="1062"/>
                </a:lnTo>
                <a:lnTo>
                  <a:pt x="528" y="1014"/>
                </a:lnTo>
                <a:cubicBezTo>
                  <a:pt x="677" y="964"/>
                  <a:pt x="636" y="1002"/>
                  <a:pt x="684" y="954"/>
                </a:cubicBezTo>
                <a:cubicBezTo>
                  <a:pt x="744" y="926"/>
                  <a:pt x="807" y="900"/>
                  <a:pt x="864" y="867"/>
                </a:cubicBezTo>
                <a:cubicBezTo>
                  <a:pt x="898" y="847"/>
                  <a:pt x="834" y="872"/>
                  <a:pt x="858" y="864"/>
                </a:cubicBezTo>
                <a:lnTo>
                  <a:pt x="1008" y="822"/>
                </a:lnTo>
                <a:lnTo>
                  <a:pt x="1200" y="726"/>
                </a:lnTo>
                <a:lnTo>
                  <a:pt x="1344" y="678"/>
                </a:lnTo>
                <a:lnTo>
                  <a:pt x="1536" y="582"/>
                </a:lnTo>
                <a:cubicBezTo>
                  <a:pt x="1688" y="531"/>
                  <a:pt x="1631" y="546"/>
                  <a:pt x="1704" y="528"/>
                </a:cubicBezTo>
                <a:lnTo>
                  <a:pt x="1872" y="438"/>
                </a:lnTo>
                <a:lnTo>
                  <a:pt x="2016" y="390"/>
                </a:lnTo>
                <a:lnTo>
                  <a:pt x="2208" y="294"/>
                </a:lnTo>
                <a:lnTo>
                  <a:pt x="2352" y="246"/>
                </a:lnTo>
                <a:lnTo>
                  <a:pt x="2544" y="189"/>
                </a:lnTo>
                <a:lnTo>
                  <a:pt x="2736" y="102"/>
                </a:lnTo>
                <a:lnTo>
                  <a:pt x="2880" y="54"/>
                </a:lnTo>
                <a:lnTo>
                  <a:pt x="3036" y="0"/>
                </a:lnTo>
                <a:lnTo>
                  <a:pt x="3036" y="2214"/>
                </a:lnTo>
                <a:lnTo>
                  <a:pt x="0" y="2214"/>
                </a:lnTo>
                <a:close/>
              </a:path>
            </a:pathLst>
          </a:cu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371600"/>
            <a:ext cx="4819680" cy="3105000"/>
          </a:xfrm>
          <a:custGeom>
            <a:avLst/>
            <a:gdLst/>
            <a:ahLst/>
            <a:rect l="l" t="t" r="r" b="b"/>
            <a:pathLst>
              <a:path w="3036" h="1956">
                <a:moveTo>
                  <a:pt x="0" y="1956"/>
                </a:moveTo>
                <a:cubicBezTo>
                  <a:pt x="0" y="1598"/>
                  <a:pt x="0" y="1240"/>
                  <a:pt x="0" y="882"/>
                </a:cubicBezTo>
                <a:lnTo>
                  <a:pt x="192" y="852"/>
                </a:lnTo>
                <a:lnTo>
                  <a:pt x="342" y="804"/>
                </a:lnTo>
                <a:lnTo>
                  <a:pt x="528" y="756"/>
                </a:lnTo>
                <a:cubicBezTo>
                  <a:pt x="677" y="706"/>
                  <a:pt x="636" y="756"/>
                  <a:pt x="684" y="708"/>
                </a:cubicBezTo>
                <a:cubicBezTo>
                  <a:pt x="744" y="680"/>
                  <a:pt x="837" y="681"/>
                  <a:pt x="894" y="648"/>
                </a:cubicBezTo>
                <a:cubicBezTo>
                  <a:pt x="928" y="628"/>
                  <a:pt x="870" y="650"/>
                  <a:pt x="894" y="642"/>
                </a:cubicBezTo>
                <a:lnTo>
                  <a:pt x="1038" y="600"/>
                </a:lnTo>
                <a:lnTo>
                  <a:pt x="1194" y="552"/>
                </a:lnTo>
                <a:lnTo>
                  <a:pt x="1362" y="498"/>
                </a:lnTo>
                <a:lnTo>
                  <a:pt x="1530" y="456"/>
                </a:lnTo>
                <a:cubicBezTo>
                  <a:pt x="1682" y="405"/>
                  <a:pt x="1648" y="438"/>
                  <a:pt x="1704" y="414"/>
                </a:cubicBezTo>
                <a:lnTo>
                  <a:pt x="1866" y="366"/>
                </a:lnTo>
                <a:lnTo>
                  <a:pt x="2022" y="312"/>
                </a:lnTo>
                <a:lnTo>
                  <a:pt x="2208" y="258"/>
                </a:lnTo>
                <a:lnTo>
                  <a:pt x="2370" y="222"/>
                </a:lnTo>
                <a:lnTo>
                  <a:pt x="2538" y="174"/>
                </a:lnTo>
                <a:lnTo>
                  <a:pt x="2712" y="120"/>
                </a:lnTo>
                <a:lnTo>
                  <a:pt x="2874" y="54"/>
                </a:lnTo>
                <a:lnTo>
                  <a:pt x="3036" y="0"/>
                </a:lnTo>
                <a:lnTo>
                  <a:pt x="3036" y="1956"/>
                </a:lnTo>
                <a:lnTo>
                  <a:pt x="0" y="1956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3720" y="18241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53720" y="24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53720" y="3033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40760" y="37195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609480" y="32623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609480" y="38718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09480" y="26668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609480" y="20527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680" y="17928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-29520" y="4876920"/>
            <a:ext cx="450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ource: Arab Population in the West Bank and Gaza:  The Million Person Gap.  Zimmerman, Seid, Wi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53720" y="12142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609480" y="14428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53720" y="609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609480" y="838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971800"/>
            <a:ext cx="1866960" cy="1523880"/>
          </a:xfrm>
          <a:custGeom>
            <a:avLst/>
            <a:gdLst/>
            <a:ahLst/>
            <a:rect l="l" t="t" r="r" b="b"/>
            <a:pathLst>
              <a:path w="1176" h="960">
                <a:moveTo>
                  <a:pt x="0" y="960"/>
                </a:moveTo>
                <a:lnTo>
                  <a:pt x="0" y="144"/>
                </a:lnTo>
                <a:lnTo>
                  <a:pt x="198" y="108"/>
                </a:lnTo>
                <a:cubicBezTo>
                  <a:pt x="310" y="92"/>
                  <a:pt x="416" y="61"/>
                  <a:pt x="528" y="48"/>
                </a:cubicBezTo>
                <a:cubicBezTo>
                  <a:pt x="538" y="47"/>
                  <a:pt x="508" y="47"/>
                  <a:pt x="564" y="42"/>
                </a:cubicBezTo>
                <a:lnTo>
                  <a:pt x="864" y="18"/>
                </a:lnTo>
                <a:lnTo>
                  <a:pt x="1164" y="0"/>
                </a:lnTo>
                <a:lnTo>
                  <a:pt x="1176" y="954"/>
                </a:lnTo>
                <a:lnTo>
                  <a:pt x="0" y="96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85800" y="83808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5800" y="4486320"/>
            <a:ext cx="619128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2514600" y="2209320"/>
            <a:ext cx="2971800" cy="7621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2514600" y="2514600"/>
            <a:ext cx="2971800" cy="457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25924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-152280" y="53625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תחזית המעודכנת של הלמס"פ כוללת פלסטינים המתגוררים בחו"ל ובירושלים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כללת שתי הקבוצות באומדנים, גרמה להפרזה מרחיקת לכת בשיעורי הלידה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למס"פ לא ניכה את ההגירה השלילית ולא את ההגירה אל "הקו הירוק" מאז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אלא רק את תחזית ההגירה החיובית שלא התממשה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63240" y="4572000"/>
            <a:ext cx="542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97            2000                      2005                      2010                      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195720" y="76320"/>
            <a:ext cx="267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ערביי הגדמ"ע ועז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פער של מיליון אנש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(1997 - 200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283360" y="1952640"/>
            <a:ext cx="386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כלוסיית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1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כלוסיית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9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מיליו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4868640" y="1984320"/>
            <a:ext cx="3849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ארה"ב</a:t>
            </a:r>
            <a:r>
              <a:rPr b="0" lang="he-IL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. Bennett Zimm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0-617-4180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טלפון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mail:  ben@pademographic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וכלוסיה ערבי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גדה המערבית ועז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פער של מיליון אנש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886200" y="1219320"/>
            <a:ext cx="19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צור קש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04920" y="403848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ab Population in the West Bank and Gaza:  The Million Person Gap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מחקר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מחקר הוצג לראשונה ב-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1.05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ב"אמריקן אנטרפרייז אינסטיטיוט" בעיר וושינגטון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רכז בגין-סאדאת ללמודים אסטרטגים" מוציא לאור את המחקר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רגום לעברית: יורם אטינגר.  כל הזכויות שמורות לבנט צימרמן ולדר' רוברטה סייד,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5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פשר למצוא את המחקר (עברית ואנגלית) ומסמכים נלווים. 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/>
              </a:rPr>
              <a:t>pademographics</a:t>
            </a: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/>
              </a:rPr>
              <a:t>.com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4120" y="1371600"/>
            <a:ext cx="86076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מדן אוכלוסין מחייב זיהוי ואימות מדויק של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תוני יסוד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ידות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טירות                  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+ הגירה חיובית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גירה שלילית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תונים מעודכנים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מחקר בודק את מרכיבי תחזית הלמס"פ מ-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לאור נתונים שפורסמו מדי שנה ע"י משרדי הרשות הפלסטינית וממשלת ישראל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43160" y="-30240"/>
            <a:ext cx="267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הגדמ"ע ועז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ער של מיליון אנשי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מתודולוג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flipH="1">
            <a:off x="538200" y="3467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8200" y="3086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8200" y="27050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8200" y="2324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38200" y="1943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8200" y="49910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60160" y="46101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60160" y="42292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60160" y="384804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60160" y="34671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" y="1752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2500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0" y="3276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0" y="4038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440" y="480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7800" y="14749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63960" y="3308400"/>
            <a:ext cx="838080" cy="1676520"/>
          </a:xfrm>
          <a:prstGeom prst="rect">
            <a:avLst/>
          </a:prstGeom>
          <a:solidFill>
            <a:srgbClr val="99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4480" y="4932360"/>
            <a:ext cx="15141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דצמב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רד הבריאו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פלסטינ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9440" y="302436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70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85960" y="3390840"/>
            <a:ext cx="838080" cy="160020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75360" y="30988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11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8880" y="4932360"/>
            <a:ext cx="7689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דצמב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מ"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99104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49514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9480" y="194328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14040" y="1066680"/>
            <a:ext cx="184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fo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s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00040" y="0"/>
            <a:ext cx="4456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למס"פ מאשרת ספירת תושבי חו"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נתוני יסוד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99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flipH="1">
            <a:off x="538200" y="3467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38200" y="3086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38200" y="27050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38200" y="2324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38200" y="1943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38200" y="49910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60160" y="46101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60160" y="42292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60160" y="384804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60160" y="34671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1752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2500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" y="3276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" y="4038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440" y="480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37800" y="14749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3960" y="3308400"/>
            <a:ext cx="838080" cy="1676520"/>
          </a:xfrm>
          <a:prstGeom prst="rect">
            <a:avLst/>
          </a:prstGeom>
          <a:solidFill>
            <a:srgbClr val="99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24480" y="4932360"/>
            <a:ext cx="15141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דצמב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רד הבריאו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פלסטינ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9440" y="302436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70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8280" y="4933800"/>
            <a:ext cx="155844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ונ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ספירת הלמס"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מצע </a:t>
            </a:r>
            <a:r>
              <a:rPr b="0" i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40760" y="2492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783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43440" y="2917800"/>
            <a:ext cx="838440" cy="152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43440" y="2841480"/>
            <a:ext cx="838440" cy="763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85960" y="3390840"/>
            <a:ext cx="838080" cy="160020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75360" y="30988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11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8880" y="4932360"/>
            <a:ext cx="7689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דצמב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מ"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99104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9514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9480" y="194328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195588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43440" y="3070080"/>
            <a:ext cx="83844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43440" y="3375000"/>
            <a:ext cx="838440" cy="160020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4040" y="2427120"/>
            <a:ext cx="2379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,0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חצי שנה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0,0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רושלי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8,0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ספת הספיר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575400" y="2590920"/>
            <a:ext cx="38088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575400" y="29718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575400" y="320004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14040" y="1066680"/>
            <a:ext cx="184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fo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s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320" y="1066680"/>
            <a:ext cx="152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su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00040" y="0"/>
            <a:ext cx="4456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למס"פ מאשרת ספירת תושבי חו"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נתוני יסוד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996-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7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H="1">
            <a:off x="538200" y="3467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38200" y="3086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38200" y="27050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38200" y="23241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38200" y="1943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8200" y="49910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60160" y="46101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0160" y="42292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0160" y="384804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60160" y="34671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0" y="1752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" y="2500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0" y="3276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0" y="4038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440" y="480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7800" y="14749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ני אנש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63960" y="3308400"/>
            <a:ext cx="838080" cy="1676520"/>
          </a:xfrm>
          <a:prstGeom prst="rect">
            <a:avLst/>
          </a:prstGeom>
          <a:solidFill>
            <a:srgbClr val="99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24480" y="4932360"/>
            <a:ext cx="15141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דצמב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רד הבריאו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פלסטינ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99440" y="302436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70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08280" y="4933800"/>
            <a:ext cx="155844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יונ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ספירת הלמס"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מצע </a:t>
            </a:r>
            <a:r>
              <a:rPr b="0" i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0760" y="2492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783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43440" y="2917800"/>
            <a:ext cx="838440" cy="152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43440" y="2841480"/>
            <a:ext cx="838440" cy="763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85960" y="3390840"/>
            <a:ext cx="838080" cy="160020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75360" y="30988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11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ילי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8880" y="4932360"/>
            <a:ext cx="7689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דצמב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מ"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99104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9514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09480" y="194328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195588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3070080"/>
            <a:ext cx="838440" cy="30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3440" y="3375000"/>
            <a:ext cx="838440" cy="160020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4040" y="2427120"/>
            <a:ext cx="2379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,0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ידול חצי שנה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0,0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רביי ירושלי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lang="he-I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438,0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ספת הספיר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5,0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שבי חו"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3,0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he-IL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ספת אחרת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575400" y="2590920"/>
            <a:ext cx="38088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575400" y="29718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575400" y="320004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43440" y="3067200"/>
            <a:ext cx="838440" cy="25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14040" y="1066680"/>
            <a:ext cx="184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fo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s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320" y="1066680"/>
            <a:ext cx="152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su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00040" y="0"/>
            <a:ext cx="4456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למס"פ מאשרת ספירת תושבי חו"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נתוני יסוד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996-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מצע 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7</a:t>
            </a:r>
            <a:r>
              <a:rPr b="1" lang="he-I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2157480"/>
            <a:ext cx="815364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"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Arial"/>
              </a:rPr>
              <a:t>הספירה כוללת 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325,000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אנשים המתגוררים, יותר משנה, מחוץ לאדמות הפלסטיניות, אך נושאים תעודות זהות פלסטיניות, ויכולים לשוב בכל עת.  המספר מינימלי ואינו מדויק, מכיוון שלא יכולנו להתקשר לכל המשפחות המתגוררות בחו"ל</a:t>
            </a:r>
            <a:r>
              <a:rPr b="1" lang="he-IL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Arial"/>
              </a:rPr>
              <a:t>מנסור חסן אבו-ליבד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              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Arial"/>
              </a:rPr>
              <a:t>ראש הלמס"פ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Arial"/>
              </a:rPr>
              <a:t>מסיבת עתונאים, אל בירה</a:t>
            </a: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“</a:t>
            </a:r>
            <a:r>
              <a:rPr b="1" lang="he-IL" sz="1400" spc="-1" strike="noStrike">
                <a:solidFill>
                  <a:srgbClr val="ffffff"/>
                </a:solidFill>
                <a:latin typeface="Times New Roman"/>
                <a:cs typeface="Arial"/>
              </a:rPr>
              <a:t>הממצאים הראשוניים של הספירה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cs typeface="Arial"/>
              </a:rPr>
              <a:t>מרץ </a:t>
            </a:r>
            <a:r>
              <a:rPr b="1" lang="he-IL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1998</a:t>
            </a:r>
            <a:r>
              <a:rPr b="1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i="1" lang="he-IL" sz="1400" spc="-1" strike="noStrike">
                <a:solidFill>
                  <a:srgbClr val="ffffff"/>
                </a:solidFill>
                <a:latin typeface="Times New Roman"/>
                <a:cs typeface="Arial"/>
              </a:rPr>
              <a:t>אפשר לקבל את המקור בערבית</a:t>
            </a:r>
            <a:r>
              <a:rPr b="1" i="1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2400" y="200160"/>
            <a:ext cx="23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ראש 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ע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ספירת תושבי חו"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1219320"/>
            <a:ext cx="794088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Census Cov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A comprehensive population enumeration always depends on the essence and the nature of the census. In general, population censuses cover all persons residing within the limits of a certain country, at a specific time. A population census is based on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De-facto Approach: Based on the enumeration of individuals according to their existence in the area of enumeration at census moment, regardless of their usual place of resid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De-jure Approach: Based on the enumeration of individuals according to their usual place of residence, regardless of their presence at the census mo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For the first ever Palestinian census, the de-facto approach was adopted with some exceptions. The census count included the following categories: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A – The Categories underwent complete data coll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. All persons present in the Palestinian territories on the census reference date, irrespective of nationality, purpose of stay and place of residence in the Palestinian territo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2.  All temporarily living abroad (for one year prior to the night of the reference date) and who have a usual place of residence in the Palestinian territories. Those persons are enumerated as parts of their househol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3. </a:t>
            </a:r>
            <a:r>
              <a:rPr b="0" lang="he-IL" sz="1800" spc="-1" strike="noStrike">
                <a:solidFill>
                  <a:srgbClr val="ffffff"/>
                </a:solidFill>
                <a:latin typeface="Times New Roman"/>
                <a:cs typeface="Arial"/>
              </a:rPr>
              <a:t>כל הסטודנטים הפלסטינים הלומדים בחו"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irrespective of the study period and the period of stay abroad along with all Palestinian detainees in the Israeli jails regardless of the detention perio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B – Palestinian abroad: Categories underwent data collection on their numbers and sex only </a:t>
            </a:r>
            <a:r>
              <a:rPr b="1" lang="he-IL" sz="1800" spc="-1" strike="noStrike" u="sng">
                <a:solidFill>
                  <a:srgbClr val="ffff00"/>
                </a:solidFill>
                <a:uFillTx/>
                <a:latin typeface="Times New Roman"/>
                <a:cs typeface="Arial"/>
              </a:rPr>
              <a:t>קטגוריה זו כוללת פלסטינים המתגוררים בחו"ל יותר משנה, אך רואים בשטחים הפלסטינים את ביתם, ונושאים תעודות זהות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(except for students and detainees enumerated in the previous category) </a:t>
            </a:r>
            <a:r>
              <a:rPr b="1" lang="he-IL" sz="1800" spc="-1" strike="noStrike" u="sng">
                <a:solidFill>
                  <a:srgbClr val="ffff00"/>
                </a:solidFill>
                <a:uFillTx/>
                <a:latin typeface="Times New Roman"/>
                <a:cs typeface="Arial"/>
              </a:rPr>
              <a:t>ללא קשר לתכלית שהותם בחו"ל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863640"/>
            <a:ext cx="45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pcbs.org/phc_97/phc_covr.aspx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97600" y="179280"/>
            <a:ext cx="23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תר הלמס"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ספירת תושבי חו"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ENNETT L. ZIMMERMAN</dc:creator>
  <dc:description/>
  <dc:language>en-US</dc:language>
  <cp:lastModifiedBy>mike wise</cp:lastModifiedBy>
  <cp:lastPrinted>2000-03-07T04:14:58Z</cp:lastPrinted>
  <dcterms:modified xsi:type="dcterms:W3CDTF">2006-10-04T20:04:05Z</dcterms:modified>
  <cp:revision>490</cp:revision>
  <dc:subject/>
  <dc:title>No Slide Title</dc:title>
</cp:coreProperties>
</file>